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882-5FD7-4743-9AA7-495B5388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F4A-1F54-4165-B2DC-A76AFF11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29FEF-3375-47AC-A724-4EE9D28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A7241-9289-47B7-8D74-0EC5C392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EE4CA-0D98-49B9-B9C1-C9372006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331AE-B431-4B40-9C5C-6A27363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31C9D-AD22-4666-AB6C-002AFEA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DB969-0C9D-40DD-A1C1-C0E665B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B0878-1850-41DE-A71C-1E15B2C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82F2-245D-420B-BB00-ECC5BA3D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44221-FA0D-4786-9F5E-376AAB07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A5228-E375-425F-AD17-A16CEFBB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635-FA6E-4C96-A16E-FEEB0C1F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05EA8-0EFF-4492-9986-282A5081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94890-A78A-4C71-A9E1-DD9DE8C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97D09-C979-4F05-97A4-19910B0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39F42-B603-4B55-9471-A1407F6B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28B5C-392A-4686-9A42-832DAF7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58DFF-5059-410B-A77B-E6C3E24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47778-D889-45E2-8C4C-40F25466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B66A1-AB4B-45CF-A7FD-6B56A16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3E827-776B-4B94-9348-70C1638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6506-7010-4097-ADB1-F1EFF1BC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C7E-0BA5-418C-88BA-50E092E9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F94DD-8B3C-4B9C-BDDF-78FC133E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3F78-C253-41D2-B8F9-978A3EDA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E446-C9DF-420D-A74B-723B9ED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78E11-0474-4023-ABE2-A42DAE9A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EEDC7-24F8-4041-959C-E4A0BC78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53B71-07BB-4AEA-B19E-1A530A6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3F52E-C9F0-435E-AB5C-D1162D5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8C9F-DDF7-4049-AD73-9A2D767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5B14C-37B0-4689-ACE2-C6EBCD4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D26EE-8297-4103-9516-2AF8E7C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7521-AE38-42A7-8C67-02959949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5AF1B-0517-4DED-ABF9-F33E80A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1915B-80FA-431B-8A3E-7DBBD345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505F-D4FB-462E-AA90-1BB2D8AD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4B224-A64A-42CF-968A-3DE01C9E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36C2B-D42C-4CF1-A0D6-C942446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7324F-03D1-4E6B-B6FD-C8F2C47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94B84-0EB8-46F7-BD70-109DF20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5F9AC-D3BE-4CCB-9A53-7E91539E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0EB90-5876-4453-838B-A804B51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18969-D4BD-45F4-A9BC-A0720D2B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A43E-CC20-4AC8-B930-DCD83FD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11DBB-A81B-48C5-B2A5-9F91740C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A9DF8-A62F-4C74-8F22-757C0D29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357E6-0C66-483C-AC36-03288B45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2C3AD-BD5F-47B3-AFFC-30B1CB18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2CB70-9350-4954-B92B-8445E577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38721-62C9-4B78-B5A0-DE3FE491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BD3DD-0133-43B7-9E85-A71682FF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DCE0C-C24E-4956-9697-B3B1C58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D5E37-6E84-4218-9A68-BD2C8D9F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74565-B7CC-4D86-B79A-F6BC9EB6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EE85-3FD4-4354-B5F5-D0BC7498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60C43-3F06-431D-82DF-99B6CC7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FA14D-597D-4654-8234-08A6E47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42CA7-0EDC-4717-82AB-9292880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88AC2-5910-4EEA-BFFB-C064C30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5E163-1B47-4ADA-BB54-57E2BAEC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DE3F8-17DA-4469-8F40-9A8B349E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84A25-199A-45F1-805D-642B67D3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5FEB1-F71A-4E5B-95B4-69D2E5FD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65DF8-F74E-498A-B8C1-6EBE1DB0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1AA42-D208-47BA-964D-F723D1DE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3037-0650-4A99-AB32-A8D034FB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91D4A-62E2-4747-89ED-DC24DF3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CC0E6-A1CF-4775-8758-F2D93FE6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79AC7-4225-464E-AB08-B977742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99702-6013-4F3C-B863-87B323D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FA64A-7D1E-4FB2-82A4-CCF3261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3859A-C262-4162-9BA9-ECC1978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AB1FB-5BF4-4372-BBF7-2CA64FAC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2A703-9BDF-4313-A2F9-E0AB65E0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49A27-2449-46E9-BC21-FAF27BC7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D6A-C8FE-4946-A9BF-C25B1F38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553E-0ACF-4001-A7B3-FC9285D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F50E-1C59-43B6-BF70-65EAB4E3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5EB-1E03-4CD6-906A-83BBC1D7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A38-E5D6-4C01-A5B5-2C0B7D2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182-2A23-42B6-A898-73BCAEB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68AB-140A-4575-9415-F634FD6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C46F-B95B-4042-93DE-0B7DA044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79A4-7C6A-40E6-9460-CFDDCF18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4B00-C7C5-4BA2-9FF7-274CD0E7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0CF3-8FC9-4EEB-A5FC-6490CC8E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7BDA-2C65-40DD-AC3A-72623758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8ED2-B568-44CC-B1EF-4E9D731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98D6-2603-4F0F-9C49-6A35411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45D-CD01-44FE-870D-50EB2728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623B-F469-44C9-AE02-AD458EB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98A2-88AE-4AE0-A270-224D663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565B-9811-48DF-BA62-E38DD79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7B88-FF42-4576-8665-9EAD243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36ED-B529-49A1-A750-D3C11CF4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8BCF-5C3E-4D96-81A3-CB25386A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E148-8AB8-4289-8086-0B45E94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9689-1243-45BA-82B5-1B635D02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45FC-B0F3-4FCF-A9F0-701C91FB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94F3-6290-4B3E-A37D-45DC9DE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A89-B63C-4D86-8E66-348A924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4CEC-C103-4871-8CC2-ADE529D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319B-106A-46B3-8CDC-7D99B62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7E3E-D4E8-437E-9405-B1904E0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7749-1329-44C1-B415-43D2400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C707-6343-4A6A-89F1-7D04251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1FE0-0C49-4BF4-B676-D4B0241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2FE1-6324-4737-B3E2-2A93A17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2C8F-C698-492D-A3D3-B50EDF68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0518-2CFF-4D2D-BB7A-59B5D705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7E8F-E6F1-481B-B1F7-59356BA2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E68-4373-4C9A-8930-11D2AABE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A7B0-C204-4DC3-AE9A-23555AB8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B552-DF84-4EFB-A4A5-67133592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45A2-E6B6-4461-9B66-36D28468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6ADC-DBCB-49BE-8536-F1270E74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CBA7-F6A2-45D4-B1D2-DB8C408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62D8-B2D9-40A1-8BF0-BF53311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87C3-02FE-47BD-BF2B-C71C1DB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8BA6-21A8-4714-BB0F-F095B3B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C4012-3149-4C9E-BFAA-8D2B491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1454-7D21-4C29-905B-EC52D0FD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7A4-7B2C-4603-BAC5-51F37E2E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D4FA-BDF5-4006-8FEB-C7E1BD34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9358F-437A-4F21-B30A-FDF1D12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5EC2-14CE-4AC5-99A9-D130675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7D904-B72F-43E7-B9FA-5D99A57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CB11-2E6E-4988-BD32-33BC7954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D1A2-5D52-4BA1-8CB3-64A766A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090B8-BA4B-4FE7-93A5-B7C4E8C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4665-0D0A-4940-A7B5-FCE7539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993D5-5328-47AF-9BAC-9A1DF90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26E97-736A-4B87-90F5-69143E6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4BD-D7C2-4F7C-9621-F75C25B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AA8C-7FE9-4AE8-AA82-791BA615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FD00-8643-42F1-87DE-626DC1AA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00B62-9658-4444-AD0A-7377C2E0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4319-C67C-4E4A-AE52-F3A69660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07093-4CBC-4B78-A880-4E042AC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E886-3982-465F-AFE8-574B8791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EC70F-CD4A-437E-99A8-811BF9D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357FC-53D3-4999-BFC8-A10C89D8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A319-9B21-43D7-B1C6-0BAD23BE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0436-C744-4F7C-9A99-A077777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188-29D9-4FB9-9577-E87AFE8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FA55-F5F7-4982-A9B6-F3D167CB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DD9E3-ABE4-488F-A4E7-8D2D764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15DE5-FA41-4404-904D-ADEAC0F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515F-A0E6-4305-A447-3D3BE79A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3D09-7FCD-462F-AA9D-9359DFC8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C5F4-907F-4723-9B32-A1371874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0F0E-4F8A-482B-9405-E98E0AA4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39A87-FCB3-47D5-8A71-9EFADF41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F66E-763F-4908-8084-5CFD1D6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23CF-01D9-415F-862D-F69E3F3C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2A0-018C-4793-A6B4-C4EC024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62462-DD68-400A-8593-B5EA8682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4E16-5CD9-41FB-A6AF-254557C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16BE-A35C-4677-908F-A4FA3843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74DA-BADC-49B1-89A3-4543D48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9C7D5-B9B5-48F8-A67C-46AFF756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751E-2376-42AD-94B4-26422CC0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658D9-6410-4DAD-8855-116036B9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BA5F-CADE-4DEA-B48B-337F47AF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43601-7C9B-4FB3-9893-56586C53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FCAC9-E0E3-49C5-AAD6-A201D7FF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6CB1-4CB8-4F4B-A233-B9867D869CF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4"/>
          <p:cNvSpPr/>
          <p:nvPr/>
        </p:nvSpPr>
        <p:spPr>
          <a:xfrm flipV="1">
            <a:off x="0" y="691920"/>
            <a:ext cx="9144000" cy="1239840"/>
          </a:xfrm>
          <a:custGeom>
            <a:avLst/>
            <a:gdLst/>
            <a:ahLst/>
            <a:rect l="l" t="t" r="r" b="b"/>
            <a:pathLst>
              <a:path w="20" h="125">
                <a:moveTo>
                  <a:pt x="0" y="0"/>
                </a:moveTo>
                <a:cubicBezTo>
                  <a:pt x="2" y="51"/>
                  <a:pt x="5" y="96"/>
                  <a:pt x="10" y="87"/>
                </a:cubicBezTo>
                <a:cubicBezTo>
                  <a:pt x="13" y="84"/>
                  <a:pt x="16" y="68"/>
                  <a:pt x="20" y="104"/>
                </a:cubicBezTo>
                <a:lnTo>
                  <a:pt x="20" y="125"/>
                </a:lnTo>
                <a:cubicBezTo>
                  <a:pt x="17" y="90"/>
                  <a:pt x="13" y="102"/>
                  <a:pt x="10" y="105"/>
                </a:cubicBezTo>
                <a:cubicBezTo>
                  <a:pt x="5" y="112"/>
                  <a:pt x="2" y="67"/>
                  <a:pt x="0" y="1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a1a75"/>
              </a:gs>
              <a:gs pos="100000">
                <a:srgbClr val="165ba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B79E-7B31-422D-94F6-9BB6B8D7F13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C487-8034-4086-B342-C0BA453E1F1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5E8-2343-47F5-910F-771A7C1D1B6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EE10-FDAA-4296-AC15-5C1A589333CD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"/>
          <p:cNvPicPr/>
          <p:nvPr/>
        </p:nvPicPr>
        <p:blipFill>
          <a:blip r:embed="rId2"/>
          <a:stretch/>
        </p:blipFill>
        <p:spPr>
          <a:xfrm>
            <a:off x="0" y="2365200"/>
            <a:ext cx="9144000" cy="21276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4" descr="LogoEDA_EN_4c.jpg"/>
          <p:cNvPicPr/>
          <p:nvPr/>
        </p:nvPicPr>
        <p:blipFill>
          <a:blip r:embed="rId3"/>
          <a:stretch/>
        </p:blipFill>
        <p:spPr>
          <a:xfrm>
            <a:off x="385920" y="423720"/>
            <a:ext cx="1598400" cy="6447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"/>
          <p:cNvPicPr/>
          <p:nvPr/>
        </p:nvPicPr>
        <p:blipFill>
          <a:blip r:embed="rId4"/>
          <a:srcRect l="20289" t="33463" r="5217" b="13204"/>
          <a:stretch/>
        </p:blipFill>
        <p:spPr>
          <a:xfrm>
            <a:off x="0" y="2133720"/>
            <a:ext cx="9144000" cy="28018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66E8-BE55-4B5A-934C-8D6B01252D4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6D119-8D49-4B51-ADB1-80189A5349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2365200"/>
            <a:ext cx="9144000" cy="2127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EF56-43BB-41C1-A2B9-75E6B6C7BDE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14"/>
          <p:cNvSpPr/>
          <p:nvPr/>
        </p:nvSpPr>
        <p:spPr>
          <a:xfrm flipV="1">
            <a:off x="0" y="1125000"/>
            <a:ext cx="9144000" cy="1238400"/>
          </a:xfrm>
          <a:custGeom>
            <a:avLst/>
            <a:gdLst/>
            <a:ahLst/>
            <a:rect l="l" t="t" r="r" b="b"/>
            <a:pathLst>
              <a:path w="20" h="125">
                <a:moveTo>
                  <a:pt x="0" y="0"/>
                </a:moveTo>
                <a:cubicBezTo>
                  <a:pt x="2" y="51"/>
                  <a:pt x="5" y="96"/>
                  <a:pt x="10" y="87"/>
                </a:cubicBezTo>
                <a:cubicBezTo>
                  <a:pt x="13" y="84"/>
                  <a:pt x="16" y="68"/>
                  <a:pt x="20" y="104"/>
                </a:cubicBezTo>
                <a:lnTo>
                  <a:pt x="20" y="125"/>
                </a:lnTo>
                <a:cubicBezTo>
                  <a:pt x="17" y="90"/>
                  <a:pt x="13" y="102"/>
                  <a:pt x="10" y="105"/>
                </a:cubicBezTo>
                <a:cubicBezTo>
                  <a:pt x="5" y="112"/>
                  <a:pt x="2" y="67"/>
                  <a:pt x="0" y="1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a1a75"/>
              </a:gs>
              <a:gs pos="100000">
                <a:srgbClr val="165ba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681960" y="650088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EDA - College of Aud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9AED-3D95-422F-B9B1-B0A47D829AD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079-913D-45DD-A975-2D8CF094C9A2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D703-4670-43EF-A38D-F1BF35A16B8D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7B29-121A-420B-A578-0210D22E6F9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3267-9160-4C5D-95DB-FAEA126AA9C4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692-5CB4-4A89-AF32-3DDB24D10C16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727440" y="-160200"/>
            <a:ext cx="54165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GB" sz="2900" spc="-1" strike="noStrike">
                <a:solidFill>
                  <a:srgbClr val="254061"/>
                </a:solidFill>
                <a:latin typeface="Calibri"/>
              </a:rPr>
              <a:t>Sovereign Debt Confere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ession 2: Eurozone Countries at Risk (then and n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bfbfbf"/>
                </a:solidFill>
                <a:latin typeface="Calibri"/>
              </a:rPr>
              <a:t>Prof. Louka T. Katse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Θέση ημερομηνίας 1"/>
          <p:cNvSpPr/>
          <p:nvPr/>
        </p:nvSpPr>
        <p:spPr>
          <a:xfrm>
            <a:off x="409680" y="59500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London</a:t>
            </a:r>
            <a:r>
              <a:rPr b="0" lang="de-DE" sz="1800" spc="-1" strike="noStrike">
                <a:solidFill>
                  <a:srgbClr val="898989"/>
                </a:solidFill>
                <a:latin typeface="Arial"/>
              </a:rPr>
              <a:t>, 09.09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244440" y="260280"/>
            <a:ext cx="1905120" cy="657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"/>
          <p:cNvPicPr/>
          <p:nvPr/>
        </p:nvPicPr>
        <p:blipFill>
          <a:blip r:embed="rId2"/>
          <a:stretch/>
        </p:blipFill>
        <p:spPr>
          <a:xfrm>
            <a:off x="0" y="73332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C:\Users\Nikos\Desktop\Εικόνα1.jpg"/>
          <p:cNvPicPr/>
          <p:nvPr/>
        </p:nvPicPr>
        <p:blipFill>
          <a:blip r:embed="rId3"/>
          <a:stretch/>
        </p:blipFill>
        <p:spPr>
          <a:xfrm>
            <a:off x="0" y="2060640"/>
            <a:ext cx="91440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181080" y="2171880"/>
          <a:ext cx="8781840" cy="4375080"/>
        </p:xfrm>
        <a:graphic>
          <a:graphicData uri="http://schemas.openxmlformats.org/drawingml/2006/table">
            <a:tbl>
              <a:tblPr/>
              <a:tblGrid>
                <a:gridCol w="925560"/>
                <a:gridCol w="842760"/>
                <a:gridCol w="1077840"/>
                <a:gridCol w="874800"/>
                <a:gridCol w="1111320"/>
                <a:gridCol w="1049400"/>
                <a:gridCol w="1552320"/>
                <a:gridCol w="1347840"/>
              </a:tblGrid>
              <a:tr h="314280"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08 main economic features: Portugal, Spain, Ireland, Gree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DP*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eneral Government Gross Debt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urrent-Account Balanc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Annual Real Effective Exchange Rates vs Euroarea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eneral Government balanc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ross Fixed Capital Formation as (%) of GDP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Unemployment Rate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96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1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2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94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1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 Annual percentag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 As a percentage of G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* 2005=100 (Price deflator, exports of goods and servi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urce: EUROPEAN ECONOMY 6|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727440" y="-155880"/>
            <a:ext cx="541656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900" spc="-1" strike="noStrike">
                <a:solidFill>
                  <a:srgbClr val="254061"/>
                </a:solidFill>
                <a:latin typeface="Calibri"/>
              </a:rPr>
              <a:t>Sovereign Debt Confere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219240" y="260280"/>
            <a:ext cx="1904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395280" y="1773360"/>
          <a:ext cx="8424720" cy="4905360"/>
        </p:xfrm>
        <a:graphic>
          <a:graphicData uri="http://schemas.openxmlformats.org/drawingml/2006/table">
            <a:tbl>
              <a:tblPr/>
              <a:tblGrid>
                <a:gridCol w="928800"/>
                <a:gridCol w="811080"/>
                <a:gridCol w="830160"/>
                <a:gridCol w="785880"/>
                <a:gridCol w="1000080"/>
                <a:gridCol w="1141560"/>
                <a:gridCol w="1000080"/>
                <a:gridCol w="909720"/>
                <a:gridCol w="1017360"/>
              </a:tblGrid>
              <a:tr h="435240">
                <a:tc gridSpan="9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08 – 2012  Macroeconomic Policy Measures: Portugal, Spain, Ireland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overnment Expenditures (%) of GDP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Total Tax Revenue (%) of GDP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Labour Compensation per Employee*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Unit Labour Cost*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1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6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78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450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493,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68,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9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1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17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440">
                <a:tc gridSpan="7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General Government Expenditures in bl. € in parenthe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190440">
                <a:tc gridSpan="7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Total Revenue from Taxes and Social Contributions as a (%) of G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190800">
                <a:tc gridSpan="7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*no available data for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313560">
                <a:tc gridSpan="7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** OECD Index base (2005=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urce: European Commission – Eurostat Database, OECD Stat Ex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1" name="Titel 5"/>
          <p:cNvSpPr/>
          <p:nvPr/>
        </p:nvSpPr>
        <p:spPr>
          <a:xfrm>
            <a:off x="3727440" y="-100080"/>
            <a:ext cx="5416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Sovereign Debt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08000" y="250920"/>
            <a:ext cx="19051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108000" y="2133720"/>
          <a:ext cx="8872560" cy="4579920"/>
        </p:xfrm>
        <a:graphic>
          <a:graphicData uri="http://schemas.openxmlformats.org/drawingml/2006/table">
            <a:tbl>
              <a:tblPr/>
              <a:tblGrid>
                <a:gridCol w="985680"/>
                <a:gridCol w="846360"/>
                <a:gridCol w="1081080"/>
                <a:gridCol w="879480"/>
                <a:gridCol w="1116000"/>
                <a:gridCol w="1052280"/>
                <a:gridCol w="1559160"/>
                <a:gridCol w="1352520"/>
              </a:tblGrid>
              <a:tr h="314280"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12 and 2013 main economic features: Portugal, Spain, Ireland, Gree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49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DP*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eneral Government Gross Debt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urrent-Account Balanc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Annual Real Effective Exchange Rates vs Euro area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eneral Government Balanc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ross Fixed Capital Formation as (%) of G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Unemployment Rate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3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2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3.6 (12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0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2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4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8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1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91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10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6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9,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7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27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7.6 (123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3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96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7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0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0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4.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4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4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75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2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-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-3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3,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13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27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188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 Annual percentag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 As a percentage of G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*** 2005=100 (Price deflator, exports of goods and servi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13 forecasts in parenthe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20">
                <a:tc gridSpan="8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urce: European Economic Forecast, EUROPEAN ECONOMY 2|2013, Spring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80000" y="-146520"/>
            <a:ext cx="541656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900" spc="-1" strike="noStrike">
                <a:solidFill>
                  <a:srgbClr val="254061"/>
                </a:solidFill>
                <a:latin typeface="Calibri"/>
              </a:rPr>
              <a:t>Sovereign Debt Confere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198360" y="260280"/>
            <a:ext cx="1905120" cy="657360"/>
          </a:xfrm>
          <a:prstGeom prst="rect">
            <a:avLst/>
          </a:prstGeom>
          <a:ln w="0">
            <a:noFill/>
          </a:ln>
        </p:spPr>
      </p:pic>
      <p:pic>
        <p:nvPicPr>
          <p:cNvPr id="596" name="Εικόνα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0560" y="1292400"/>
            <a:ext cx="14749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el 5"/>
          <p:cNvSpPr/>
          <p:nvPr/>
        </p:nvSpPr>
        <p:spPr>
          <a:xfrm>
            <a:off x="3733920" y="-117360"/>
            <a:ext cx="54165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Sovereign Debt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219240" y="277920"/>
            <a:ext cx="1904760" cy="657000"/>
          </a:xfrm>
          <a:prstGeom prst="rect">
            <a:avLst/>
          </a:prstGeom>
          <a:ln w="0">
            <a:noFill/>
          </a:ln>
        </p:spPr>
      </p:pic>
      <p:sp>
        <p:nvSpPr>
          <p:cNvPr id="599" name="Ορθογώνιο 1"/>
          <p:cNvSpPr/>
          <p:nvPr/>
        </p:nvSpPr>
        <p:spPr>
          <a:xfrm>
            <a:off x="1258920" y="4797360"/>
            <a:ext cx="360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Ορθογώνιο 6"/>
          <p:cNvSpPr/>
          <p:nvPr/>
        </p:nvSpPr>
        <p:spPr>
          <a:xfrm>
            <a:off x="2700360" y="4803840"/>
            <a:ext cx="358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Ορθογώνιο 9"/>
          <p:cNvSpPr/>
          <p:nvPr/>
        </p:nvSpPr>
        <p:spPr>
          <a:xfrm>
            <a:off x="4284720" y="4805280"/>
            <a:ext cx="3585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Ορθογώνιο 10"/>
          <p:cNvSpPr/>
          <p:nvPr/>
        </p:nvSpPr>
        <p:spPr>
          <a:xfrm>
            <a:off x="5724360" y="4792680"/>
            <a:ext cx="360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Ομάδα 3"/>
          <p:cNvGrpSpPr/>
          <p:nvPr/>
        </p:nvGrpSpPr>
        <p:grpSpPr>
          <a:xfrm>
            <a:off x="687240" y="1620720"/>
            <a:ext cx="8035920" cy="4900680"/>
            <a:chOff x="687240" y="1620720"/>
            <a:chExt cx="8035920" cy="4900680"/>
          </a:xfrm>
        </p:grpSpPr>
        <p:sp>
          <p:nvSpPr>
            <p:cNvPr id="604" name="TextBox 7"/>
            <p:cNvSpPr/>
            <p:nvPr/>
          </p:nvSpPr>
          <p:spPr>
            <a:xfrm rot="16200000">
              <a:off x="-307800" y="3947400"/>
              <a:ext cx="2236680" cy="246240"/>
            </a:xfrm>
            <a:prstGeom prst="rect">
              <a:avLst/>
            </a:prstGeom>
            <a:noFill/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f497d"/>
                  </a:solidFill>
                  <a:latin typeface="Calibri"/>
                </a:rPr>
                <a:t>Percent (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Picture 12" descr=""/>
            <p:cNvPicPr/>
            <p:nvPr/>
          </p:nvPicPr>
          <p:blipFill>
            <a:blip r:embed="rId2"/>
            <a:stretch/>
          </p:blipFill>
          <p:spPr>
            <a:xfrm>
              <a:off x="1134720" y="1620720"/>
              <a:ext cx="7588440" cy="4900680"/>
            </a:xfrm>
            <a:prstGeom prst="rect">
              <a:avLst/>
            </a:prstGeom>
            <a:ln w="28440">
              <a:solidFill>
                <a:srgbClr val="1f497d"/>
              </a:solidFill>
              <a:miter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95280" y="1916280"/>
            <a:ext cx="8424720" cy="452592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2400" spc="-1" strike="noStrike" u="sng">
                <a:solidFill>
                  <a:srgbClr val="1f497d"/>
                </a:solidFill>
                <a:uFillTx/>
                <a:latin typeface="Calibri"/>
              </a:rPr>
              <a:t>Key Questions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iven the experience and  policy responses, what are likely short-term and medium term prospects for the economy, debt, financial sustainability and  the Eurozon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hat are important lessons for Eurozone and national policies to be drawn from national experiences (successes and failures)? How best to tackle growing debt  and  rising unemploy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hat are the future major risks and policy challenges for the Eurozone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itel 5"/>
          <p:cNvSpPr/>
          <p:nvPr/>
        </p:nvSpPr>
        <p:spPr>
          <a:xfrm>
            <a:off x="3732120" y="-157320"/>
            <a:ext cx="5416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Sovereign Debt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98360" y="189000"/>
            <a:ext cx="19051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11:22:47Z</dcterms:created>
  <dc:creator>user</dc:creator>
  <dc:description/>
  <dc:language>en-US</dc:language>
  <cp:lastModifiedBy>user</cp:lastModifiedBy>
  <dcterms:modified xsi:type="dcterms:W3CDTF">2013-09-07T16:40:51Z</dcterms:modified>
  <cp:revision>41</cp:revision>
  <dc:subject/>
  <dc:title>Διαφάνεια 1</dc:title>
</cp:coreProperties>
</file>